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FC54-9734-4970-A9C0-4F3EDA77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0F98-FADC-4651-933C-9FBEE96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46A5-F2B7-4399-8BAD-13094B52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1D2E-3BDA-4FF9-8592-66C7B39F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D01-EBAF-4A5F-A656-C8C5294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05C7-427E-40C4-A505-45867A20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4617-09EC-4370-99D7-5458A9D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1A9-7590-4C92-B262-B41EDAC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3AAB-81D7-4F40-9A6B-5CC0DD1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5726-0D15-41F9-B7C6-249B8D5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AA8-B2B5-438E-9B93-AA47D60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ADD1-EEE0-4176-88C8-6D3114A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99A-CADD-4F14-88EC-DF9160F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B94-BDC3-4A53-AC27-E6ACDD4F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B6D-C7B2-496B-B263-0FF9F3EE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7A06-09FF-419E-B2B0-3CD0BA63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091-9BA5-4223-9353-19325204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0A79-79A7-49C9-A89B-DAE9F42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4723-E2A2-4C92-BF38-4280A51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8AF3-788B-41F9-92A7-E37D271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D548-3778-4618-9F7F-2BD7737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C45C-1325-415C-84D3-333574A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067F-3D6E-4E63-8BDE-4353E25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C227-5229-44FE-9AB3-280D34E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1CA-489B-4F8E-AAD9-7ABAF7249CF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858-F4A4-499B-BE90-F577F814B6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97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5 (99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Исус, Ходатаят, е жи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моли се за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ва ме уверяв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че аз съм веч спасен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Той в скърбите стои при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ежно ме теш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сичко съм освобо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кога се Той яви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Твоята дума вярвам аз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зная туй, Хрис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ще приемеш раба Св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при Себе Си в небе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0:17Z</dcterms:modified>
  <cp:revision>107</cp:revision>
  <dc:subject/>
  <dc:title>Slide 1</dc:title>
</cp:coreProperties>
</file>